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BA7-C33E-40E7-9BD4-BCE263ED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5E6-0EEB-4B0E-A825-8AA2E6F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B60-F370-49AC-BE12-6D146841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2A4-1EC6-4B74-A822-623ECD8D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BAC-77A5-4D91-8692-DF8C6B8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D28-A401-4234-ABAC-B0DF68E7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542-21D1-4F31-A5FD-111941FC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E13-532E-4501-837F-38259CFD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E45-3233-48F9-BBEF-BCE0F24D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B0E-911A-4F1A-AB9D-1382A7D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AEC-E56E-4FC5-B260-04484044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8BE-957D-43BA-9531-64CD72F5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849E-8E19-4DA9-A8CF-8165246C4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8:23:58Z</dcterms:created>
  <dc:creator>Grupo Editorial</dc:creator>
  <dc:description/>
  <dc:language>en-US</dc:language>
  <cp:lastModifiedBy>Grupo Editorial</cp:lastModifiedBy>
  <dcterms:modified xsi:type="dcterms:W3CDTF">2001-09-28T08:26:33Z</dcterms:modified>
  <cp:revision>1</cp:revision>
  <dc:subject/>
  <dc:title>Sin título de diapositiva</dc:title>
</cp:coreProperties>
</file>